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32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6056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32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6056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F6E34E-721B-4ECE-B55D-FA8EA9E44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D3738E-7254-4B89-99E4-87A960B13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384F86-A669-4958-956B-F85CA9BAB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697610-BF7B-40EC-90F5-A241D4484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786113-2EF7-4F8B-995F-8473FADEE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4920" y="914040"/>
            <a:ext cx="7315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060CEF-45D1-4B4A-BE48-1C1FAE7A8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A4148D-A32D-4716-A782-6DD826C8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275703-AD0F-4138-B99C-F7D6A37D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8A5A91-6CB5-4C7D-A3E8-54E2C479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41FC08-5BEF-4768-8A7A-E06E152E7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7B6D95-2A7B-4F2F-8EB1-4ED46ECB7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932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56056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4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2932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56056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D7D045-C2E2-4552-B24C-1402338A0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914040"/>
            <a:ext cx="7315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144000" cy="1219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SzPct val="80000"/>
              <a:buFont typeface="Monotype Sort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1097280" indent="-21924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1536120" indent="-219240">
              <a:spcBef>
                <a:spcPts val="7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1974960" indent="-219240">
              <a:spcBef>
                <a:spcPts val="799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1974960" indent="-21924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1974960" indent="-21924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029200" y="6095880"/>
            <a:ext cx="3733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0" y="6548400"/>
          <a:ext cx="9144000" cy="309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6548400"/>
                    <a:ext cx="9144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CC766-0206-4179-8A1A-B377C1403818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4920" y="1371600"/>
            <a:ext cx="845820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Arial"/>
              </a:rPr>
              <a:t>The Reality of NLOS: Cost, Coverage and Capacity</a:t>
            </a:r>
            <a:br>
              <a:rPr sz="3600"/>
            </a:br>
            <a:br>
              <a:rPr sz="3600"/>
            </a:br>
            <a:r>
              <a:rPr b="1" lang="en-US" sz="3000" spc="-1" strike="noStrike">
                <a:solidFill>
                  <a:srgbClr val="333333"/>
                </a:solidFill>
                <a:latin typeface="Arial"/>
              </a:rPr>
              <a:t>Michael D. Greenbaum</a:t>
            </a:r>
            <a:br>
              <a:rPr sz="3000"/>
            </a:b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resident &amp; CEO</a:t>
            </a: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Hybrid Networks, Inc.</a:t>
            </a: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michael.greenbaum@hybrid.com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Broadband Wireless World Forum</a:t>
            </a: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February 12, 200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 advTm="6000"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INDUSTRY REQUIREMENT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2438280"/>
            <a:ext cx="8001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 Second Generation Product: 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1.  NLOS, 90% Coverag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2.  Low-Cost CPE &lt; $500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3.  Self-Installabl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 advTm="6000"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OPERATOR ROI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057400" y="1676520"/>
            <a:ext cx="5410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Capital Expenditur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FBBW vs. Cable, DSL, Satellite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Payback Period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Market Shar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Time to Market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Market Penetration 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Market Expansion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Revenu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ARPU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Tiered Service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 advTm="6000"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THE COMPLETE SYSTEM SOLUTION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4266720"/>
            <a:ext cx="86104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Modulation/Coding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Monotype Sorts"/>
                <a:ea typeface="Monotype Sorts"/>
              </a:rPr>
              <a:t></a:t>
            </a:r>
            <a:r>
              <a:rPr b="0" lang="en-US" sz="13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Performance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Equalization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Monotype Sorts"/>
                <a:ea typeface="Monotype Sorts"/>
              </a:rPr>
              <a:t></a:t>
            </a:r>
            <a:r>
              <a:rPr b="0" lang="en-US" sz="13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caling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High-Volume CPE Chips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Monotype Sorts"/>
                <a:ea typeface="Monotype Sorts"/>
              </a:rPr>
              <a:t>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 Provisioning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Antennas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Monotype Sorts"/>
                <a:ea typeface="Monotype Sorts"/>
              </a:rPr>
              <a:t>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 Network Management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5791320" y="2286000"/>
          <a:ext cx="2971800" cy="173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2286000"/>
                    <a:ext cx="2971800" cy="17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304920" y="1828800"/>
          <a:ext cx="2286000" cy="223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1828800"/>
                    <a:ext cx="2286000" cy="22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6" name=""/>
          <p:cNvGrpSpPr/>
          <p:nvPr/>
        </p:nvGrpSpPr>
        <p:grpSpPr>
          <a:xfrm>
            <a:off x="3830760" y="1981080"/>
            <a:ext cx="969840" cy="1836720"/>
            <a:chOff x="3830760" y="1981080"/>
            <a:chExt cx="969840" cy="1836720"/>
          </a:xfrm>
        </p:grpSpPr>
        <p:graphicFrame>
          <p:nvGraphicFramePr>
            <p:cNvPr id="97" name=""/>
            <p:cNvGraphicFramePr/>
            <p:nvPr/>
          </p:nvGraphicFramePr>
          <p:xfrm>
            <a:off x="3830760" y="3040200"/>
            <a:ext cx="969840" cy="777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830760" y="3040200"/>
                      <a:ext cx="969840" cy="77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9" name=""/>
            <p:cNvSpPr/>
            <p:nvPr/>
          </p:nvSpPr>
          <p:spPr>
            <a:xfrm>
              <a:off x="3983040" y="1981080"/>
              <a:ext cx="762120" cy="762120"/>
            </a:xfrm>
            <a:prstGeom prst="diamond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13500000"/>
            </a:gradFill>
            <a:ln w="255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363920" y="2743200"/>
              <a:ext cx="0" cy="38088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 rot="10800000">
            <a:off x="2133360" y="2362320"/>
            <a:ext cx="152280" cy="761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0800000">
            <a:off x="2361960" y="2438280"/>
            <a:ext cx="15228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0800000">
            <a:off x="3200400" y="2666520"/>
            <a:ext cx="7632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0800000">
            <a:off x="2819160" y="2590920"/>
            <a:ext cx="152280" cy="38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0800000">
            <a:off x="2590560" y="2514600"/>
            <a:ext cx="15228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3047760" y="2666520"/>
            <a:ext cx="7596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0800000">
            <a:off x="5257440" y="2362320"/>
            <a:ext cx="152280" cy="761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0800000">
            <a:off x="5486040" y="2438280"/>
            <a:ext cx="15228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0800000">
            <a:off x="6324480" y="2666520"/>
            <a:ext cx="7632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10800000">
            <a:off x="5943240" y="2590920"/>
            <a:ext cx="152280" cy="38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714640" y="2514600"/>
            <a:ext cx="15228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0800000">
            <a:off x="6172200" y="2666520"/>
            <a:ext cx="7632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BEGIN WITH A PROVEN SYSTEM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Scaling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452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&gt;10,000 CPEs on One Base Station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452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&gt; 2,000 CPEs in One Sector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Performanc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&gt; 1 Mb/s Downstream on Fully Loaded System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Reliability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Low Field Failure Rate, &lt;0.25%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Failure Recovery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utomatic Restart and Return to Servic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 advTm="6000">
    <p:cover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THE NEW PRODUCT FOCUS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High Volume Chipsets  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tandard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odulation: SC, OFDM, CDMA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Equalizatio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edia Access Contro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rovisioning, Network Managemen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iversity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 advTm="6000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THE ADDRESSABLE MARKET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333333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International and Domestic Market Size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lnSpc>
                <a:spcPct val="140000"/>
              </a:lnSpc>
              <a:spcBef>
                <a:spcPts val="1500"/>
              </a:spcBef>
              <a:buClr>
                <a:srgbClr val="333333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Large - Layered System (up to 100,000 CPEs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lnSpc>
                <a:spcPct val="140000"/>
              </a:lnSpc>
              <a:spcBef>
                <a:spcPts val="1500"/>
              </a:spcBef>
              <a:buClr>
                <a:srgbClr val="333333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mall - Entry Level System (up to 2,000 CPEs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"/>
          <p:cNvSpPr/>
          <p:nvPr/>
        </p:nvSpPr>
        <p:spPr>
          <a:xfrm>
            <a:off x="1066680" y="266688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 advTm="6000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CONCLUSIONS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Develop a Second Generation System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Build on a Proven Product Bas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Focus on Key Product Featur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NLOS, 90% Coverag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Low Cost CPE &lt;$500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lf-Installabl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Meeting Varying Market Siz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Second Generation Solution = Improved Operator ROI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 advTm="6000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1T20:40:28Z</dcterms:created>
  <dc:creator>TracyI</dc:creator>
  <dc:description/>
  <dc:language>en-US</dc:language>
  <cp:lastModifiedBy>TracyI</cp:lastModifiedBy>
  <cp:lastPrinted>2002-02-09T03:23:35Z</cp:lastPrinted>
  <dcterms:modified xsi:type="dcterms:W3CDTF">2002-02-09T04:53:59Z</dcterms:modified>
  <cp:revision>32</cp:revision>
  <dc:subject/>
  <dc:title>No Slide Title</dc:title>
</cp:coreProperties>
</file>