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4BED-223C-4C57-AE15-50272E46D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1DC8-9A63-4285-9DD9-1960D371D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4172-0E18-47EF-BBA8-D8957041B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9C5B-8FD0-4D58-BB9B-675E31206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64E48-9376-46B7-844A-23D4AF1CD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D2075-2112-4C7B-A5D5-153B0F6A6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C3B29-5AB2-4AA4-A1A7-6DE5B8ED7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0DE0F-CA84-43D1-881D-5253E16C3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1D62A-97F6-452E-81F6-1EFCDB856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4CD39-40D8-4116-AF8A-ACB309F6C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AE00A-DB3A-4DF7-A33C-8B5060D2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97F9-0D9F-4A66-B154-AA49CD706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1C151-12FD-4DCF-8135-55835E12E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FBBFF-A6A1-4121-9FBC-2C64EDB51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61577-B5F8-4D53-83F1-DD36AAE04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48B19-1EDC-4131-8292-1BEA50A71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8C2E6-FFD7-45DB-BAF7-4AAC44B45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7F79-CA88-4025-8DA6-D87AA557E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C24C-33E2-41EB-B550-A77594893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4F6D-8E65-436B-8B83-3A19C3D27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245B-7809-4DDB-AE10-2CA20CBA6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6B1F-299D-4335-9993-493394FE3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38D4-40E2-4585-A5E4-23D36F3FA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B0FA-4350-40D7-93DC-50B72D7C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9900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9900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04F96-2040-41DA-BE8D-9A59ABDF6B0A}" type="slidenum"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16478-FAEF-4CAC-ADBA-A2A0D1012ECA}" type="slidenum"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Prime Companies Inc.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   Broadband Wireless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           World  Forum 2002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43000" y="3809520"/>
            <a:ext cx="72388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February 12-14 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Anaheim, California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3962520" y="2666880"/>
            <a:ext cx="441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ff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5791320" y="2743200"/>
            <a:ext cx="2727360" cy="3278160"/>
            <a:chOff x="5791320" y="2743200"/>
            <a:chExt cx="2727360" cy="327816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5791320" y="2743200"/>
              <a:ext cx="2727360" cy="327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 txBox="1"/>
            <p:nvPr/>
          </p:nvSpPr>
          <p:spPr>
            <a:xfrm>
              <a:off x="5791320" y="2743200"/>
              <a:ext cx="2727360" cy="3278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6699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EE02-D9D8-44F6-83D1-D3E6713EAD7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ow To Deploy A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Wireless Network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Select manufacturer and proper equip’t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Evaluate throughput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Evaluate technology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at is the growth potential?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Number of customers per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hub/per sector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What services can be provided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now and later?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Focus on equipment pricing-most     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particularly CPE pricing!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C3F6-60B9-40C3-93AC-0812B0AE5C4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ow To Deploy A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Wireless Network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efine frequencies to be used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LMDS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5.8 GHZ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2.4 GHZ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eployment methods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Define point to point requirement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Define point to multipoint requirements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Define equipment hardware requirements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63F7-F1F2-43B8-A78C-3E628B16300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ow To Deploy A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Wireless Network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Preorder required bandwidth to POP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T1’s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S3’s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Use right equipment for right application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Is ATM required?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1260-1711-408D-8F0F-53D182AF32E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LMDS" descr=""/>
          <p:cNvPicPr/>
          <p:nvPr/>
        </p:nvPicPr>
        <p:blipFill>
          <a:blip r:embed="rId1"/>
          <a:srcRect l="0" t="7245" r="0" b="15396"/>
          <a:stretch/>
        </p:blipFill>
        <p:spPr>
          <a:xfrm>
            <a:off x="1523880" y="380880"/>
            <a:ext cx="6096240" cy="609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058F-94FB-4296-8741-40062929144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Road To Success 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After Deployment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360" y="2362320"/>
            <a:ext cx="74674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Create Alliance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Join Chambers of Commerce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Have them (C of C) become your advocate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Acquaint yourself with Economic Development Agencie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Provide live training sessions to the business community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0D74-FCC8-44E6-8A2B-915818BFAEB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Road To Success 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After Deployment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Clearly define the benefits of your services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Educate your prospective customers on what E-commerce means to them and their business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Be conscious that your prospective customers are </a:t>
            </a:r>
            <a:r>
              <a:rPr b="1" i="1" lang="en-US" sz="3200" spc="-1" strike="noStrike">
                <a:solidFill>
                  <a:srgbClr val="9900ff"/>
                </a:solidFill>
                <a:latin typeface="Tahoma"/>
              </a:rPr>
              <a:t>starving but they are not hungry!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4C8C-E6FE-4E01-B51E-3A5CBDA97F4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Road To Success 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After Deployment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at does net speed mean to your customers business?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Show your customer how speed can save them money!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Augment your horizons, serve both business as well as your residential community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Keep in focus that business has a different requirement than the residential customer. 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0555-C343-46A3-8F29-0B6E0FBB50D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Road To Success 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After Deployment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Consider the fact that in general the residential consumer has minimal impact on bandwidth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Same bandwidth can serve both the business as well as the residential consumer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Business uses net usually 8-5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Residence uses net usually 7-?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6853-F703-4334-9791-B69BB67D2A5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ow Do I Get Started in These      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Economic Times?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o not accept anything other than reality. Be a realist!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Make extensive use of the pre-subscription process to assure yourself that you have customer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ere and when possible create alliances with manufacturer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Manufacturers are also going through tough times. 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6E01-2D2D-47DA-B0DF-1E17075AE3D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ow Do I Get Started in These      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Economic Times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Communicate with your congressional representatives. 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Sell them on your plan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Have them support you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Look for governmental low interest loans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Remember today what counts is </a:t>
            </a:r>
            <a:r>
              <a:rPr b="1" i="1" lang="en-US" sz="3200" spc="-1" strike="noStrike">
                <a:solidFill>
                  <a:srgbClr val="9900ff"/>
                </a:solidFill>
                <a:latin typeface="Tahoma"/>
              </a:rPr>
              <a:t>PROFIT</a:t>
            </a: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21D3-A3D7-4A85-9607-80F3CD33E31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Strategies Of Deploying Wireless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Broadband Utilizing LMDS,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Unlicensed Bandwidth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(5.8 GHZ and 2.4 GHZ)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886200"/>
            <a:ext cx="73915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Tahoma"/>
              </a:rPr>
              <a:t>  </a:t>
            </a:r>
            <a:r>
              <a:rPr b="1" lang="en-US" sz="3600" spc="-1" strike="noStrike">
                <a:solidFill>
                  <a:srgbClr val="9900ff"/>
                </a:solidFill>
                <a:latin typeface="Tahoma"/>
              </a:rPr>
              <a:t>Presented By Norbert J. Lima             </a:t>
            </a:r>
            <a:r>
              <a:rPr b="1" lang="en-US" sz="36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9900ff"/>
                </a:solidFill>
                <a:latin typeface="Tahoma"/>
              </a:rPr>
              <a:t>    President and CEO</a:t>
            </a:r>
            <a:endParaRPr b="0" lang="en-US" sz="3600" spc="-1" strike="noStrike">
              <a:solidFill>
                <a:srgbClr val="9900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Tahoma"/>
              </a:rPr>
              <a:t>Prime Companies Incorporated</a:t>
            </a:r>
            <a:endParaRPr b="0" lang="en-US" sz="36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5D0C-11AE-476C-BC69-1D1C953D8CA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istory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Prime companies participated in the 1999 LMDS auction in the U.S. 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Prime companies was successful in acquiring 8 LMDS “A” license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Geographically speaking, these licenses range from western Pennsylvania going in a northerly direction all the way into the state of new York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C458-6834-48E6-A283-3C8E0680EC5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Goal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Strategic and cost effective deployment of broadband services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Serve all economically feasible markets- both in secondary and tertiary markets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1550-1AAD-43F1-938A-194C6ED83B2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8380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Challenges of Getting Started</a:t>
            </a:r>
            <a:br>
              <a:rPr sz="3600"/>
            </a:b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Have a business plan with reasonable and realistic expectations, and follow your business plan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at services do you intend to deploy?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High speed internet connectivity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Video conferencing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Virtual private networks (VPN’s)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Point to point data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Dial tone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08E3-E346-49D7-88C5-67223297DCE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7560" y="9140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Challenges Continued…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Which service offering, or package of services do you intend to provide first?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EBC7-E0DA-4961-9DC9-429F47A2DDD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Challenges Continued…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Considerations before defining market deployment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o marketing studies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      where possible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Understand your markets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       and customer needs/want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Obtain pre-subscription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ere possible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Is bandwidth available?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Negotiate for bandwidth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6F38-9820-45B1-9A62-0F381C9A39A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Challenges Continued…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Considerations before defining (con’t)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Consider market makeup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Building size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Avg number of customers per bldg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How many sectors are req. to provide svc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efine price points for services to be 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eployed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Explore terms of rooftop usage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97B2-B6C7-4F3B-A8BB-510BD9B9245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Challenges Continued…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ich market to deploy first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Consider competition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Consider bandwidth availability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Is DSL available?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Consider location of deployment hub site!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Is radio/hub site readily available?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What manufacturers’ equipment do you use?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Do you have pre-subscriptions?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E4C3-EDCD-4805-BE7E-5966079EA76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5T18:15:46Z</dcterms:created>
  <dc:creator>sondra</dc:creator>
  <dc:description/>
  <dc:language>en-US</dc:language>
  <cp:lastModifiedBy>sondra</cp:lastModifiedBy>
  <dcterms:modified xsi:type="dcterms:W3CDTF">2002-02-08T17:04:38Z</dcterms:modified>
  <cp:revision>83</cp:revision>
  <dc:subject/>
  <dc:title>PowerPoint Presentation</dc:title>
</cp:coreProperties>
</file>