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DF18A8-EF1F-49EE-9637-5E68FB1A7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A06A1-9670-48D4-ABD9-EF0DEDC96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AD1A075-3003-4814-90A9-878941CDA9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B881BA01-55B3-4ED4-998B-44E77B1DD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5BCB76E9-0F93-425E-9844-3A7549FC4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01C9EA-D9CE-4311-B3A3-046CC85157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3D8B1-7C23-480E-AB79-06D95EBFAF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ACCCF8-E561-45F3-B60C-2E67F3EB4E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BB826767-7635-4B8D-A6CB-0CE693CC4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060377E9-5116-4776-8475-7BA8773159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D424B23F-76F7-40DC-BD8E-4E563D8B3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B83C512-AE48-4289-B6B5-A748D55F88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72A571D-03CE-4B7C-A0FF-4C735D218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F4FBF2E-EAAE-4DF3-9527-BCA70CD839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2C7C0F4-AEE6-4A4E-8962-52CF0C5F34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654FA272-F49B-4700-89FB-5D5EE4CC5B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22966FB2-40B9-4FB3-B6CB-7286E37A89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6608A469-E313-4990-A5F2-D429630C95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91ACE25-A3D4-4AA7-B679-5003DD93C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90EB712-1E74-4B3A-A764-E82A3E4B2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D925E5C7-9336-455E-BD31-9FB9ED99B5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309B756-73A4-40C7-8329-21CFA2881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A56C1FD-5A01-43DB-B816-13DCBAA37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B261F12-5903-465E-AA34-AFCDC8C8C7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27F0B2A-587F-4ADA-8834-B0E2DB15A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2EF8-E6C2-4E6A-B522-19EEBE0AF2F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C1FC-6EB7-4F94-9DC1-CC996600892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2B19-2D40-42F8-AEEA-5B7EA27ACAEB}" type="datetime3">
              <a:rPr b="0" lang="en-US" sz="2800" spc="-1" strike="noStrike">
                <a:solidFill>
                  <a:srgbClr val="ffffff"/>
                </a:solidFill>
                <a:latin typeface="Arial"/>
              </a:rPr>
              <a:t>July 29,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7ABBCA8-CF7E-4F51-B828-30EC6AD6FC45}"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A2E63B1-B933-4593-AE9D-244814122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555E0DAD-80E4-4B5A-AED2-F15E4D7F0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1BD060E-2090-4F52-98A5-5345588C3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8141DF2-A83C-49BD-933B-3EF91D1CCA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5A30A9B-CEA1-4B57-95FD-844FDDC8CC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3610DE7-026A-47B7-A80A-C70D389A7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2A7AB83-C9D9-4486-9338-D11708B30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630FD46-A1D1-4680-B424-825A407DA7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263F0DE-BF44-4BC5-B132-69889ADD9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2871F99-E540-44CB-85E4-0097FBA6E9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AF0AF579-4295-4369-82AF-45BA3CBC66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11248AF-2320-440D-8E3B-B1029BAF2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B3A19C33-1989-4E61-A971-C1B3D7179928}"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51D16E6-9B0D-42B6-9C7A-7A256DC320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CB836157-84D3-4201-AF59-2D43FA4C8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16646BB0-CF61-4711-A5BD-F19976D3F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98F217D-E9FB-4D9D-A3DD-76DA6F761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D81DF76-1180-4A8F-A054-4DDF64C4C2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A4AEC3A-778A-4DCF-B7FD-0AAE2C044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9C2B091-2C79-4E27-8835-FDA34B9B24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