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00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C593C2D-ACC2-4E0C-8C93-8A930C601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7030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and third generation technologies are primarily are designed for mobility systems. However, based on a paper by researchers at Erricson we conclude that even for a fixed system the system capacity would be at most double what is show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x’s performance shown is based on a 2x15 MHz layout with 1 MHz guard bands (therefore 2x13 MHz of usable spectrum for data). For a system with 16 antennas and a spectral spreading factor 2, the baseline performance for traffic (4 bits/tone) is 0.92 bps/Hz per user. It is conceivable that the 32 degrees of freedom could support 32 users, in which case the capacity is 29.6 bps/Hz. Although conceivable, supporting 32 users is not likely. Simulations for a single cell indicate that the number of simultaneous users with 32 DOFs is about 16, which corresponds to 14.8 bps/Hz. For an embedded cell with a suburban Hata/COST-231 propagation model, simulations indicate that the number of simultaneous users with 32 DOFs is about 9. This corresponds to 8.3 bps/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C776-D0B6-4D0F-AD8A-7BD294E4529D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DDA9-AA08-4A34-AA1E-DBF32C34C1DA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62440" y="3757680"/>
            <a:ext cx="347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NLOS in the microwave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CDMA vs OFD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ernard Abousso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VP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57760" y="365040"/>
          <a:ext cx="14284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365040"/>
                    <a:ext cx="1428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55720" y="365040"/>
            <a:ext cx="53974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Plex™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base_combo" descr=""/>
          <p:cNvPicPr/>
          <p:nvPr/>
        </p:nvPicPr>
        <p:blipFill>
          <a:blip r:embed="rId1"/>
          <a:stretch/>
        </p:blipFill>
        <p:spPr>
          <a:xfrm>
            <a:off x="3648240" y="1233360"/>
            <a:ext cx="2638440" cy="2546640"/>
          </a:xfrm>
          <a:prstGeom prst="rect">
            <a:avLst/>
          </a:prstGeom>
          <a:ln w="0">
            <a:noFill/>
          </a:ln>
        </p:spPr>
      </p:pic>
      <p:pic>
        <p:nvPicPr>
          <p:cNvPr id="151" name="group%201%20inside%20with%20laptop" descr=""/>
          <p:cNvPicPr/>
          <p:nvPr/>
        </p:nvPicPr>
        <p:blipFill>
          <a:blip r:embed="rId2"/>
          <a:stretch/>
        </p:blipFill>
        <p:spPr>
          <a:xfrm>
            <a:off x="7340760" y="1420920"/>
            <a:ext cx="1217520" cy="1825560"/>
          </a:xfrm>
          <a:prstGeom prst="rect">
            <a:avLst/>
          </a:prstGeom>
          <a:ln w="0">
            <a:noFill/>
          </a:ln>
        </p:spPr>
      </p:pic>
      <p:pic>
        <p:nvPicPr>
          <p:cNvPr id="152" name="config-gif" descr=""/>
          <p:cNvPicPr/>
          <p:nvPr/>
        </p:nvPicPr>
        <p:blipFill>
          <a:blip r:embed="rId3"/>
          <a:stretch/>
        </p:blipFill>
        <p:spPr>
          <a:xfrm>
            <a:off x="6580080" y="4392720"/>
            <a:ext cx="2360880" cy="1716120"/>
          </a:xfrm>
          <a:prstGeom prst="rect">
            <a:avLst/>
          </a:prstGeom>
          <a:ln w="0">
            <a:noFill/>
          </a:ln>
        </p:spPr>
      </p:pic>
      <p:pic>
        <p:nvPicPr>
          <p:cNvPr id="153" name="remote1" descr=""/>
          <p:cNvPicPr/>
          <p:nvPr/>
        </p:nvPicPr>
        <p:blipFill>
          <a:blip r:embed="rId4"/>
          <a:stretch/>
        </p:blipFill>
        <p:spPr>
          <a:xfrm>
            <a:off x="1041480" y="138420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5400" y="4306680"/>
            <a:ext cx="4707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In local trial: Feb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First customer trial in US: Q2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Commercial availability: Q3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3400" y="5934240"/>
            <a:ext cx="4780080" cy="39888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ease come visit us at booth 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56880" y="1555200"/>
            <a:ext cx="7628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budget &amp; low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um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4280" y="1403280"/>
            <a:ext cx="7628040" cy="53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Coverage: Link Budget &amp; fade margin not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verage, availability, height of antennas, building penetration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agation model: Cost 231, Erceg B/ C, Tree canopy with 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rate assumed</a:t>
            </a: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apacity: Mb/s p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of modulation,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cell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radius and spectral efficiency assu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Spectrum efficiency: Mb/s/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E and cost of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cost per subscriber and cost of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roduct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Evaluation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mReach Networks’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fdm_nt" descr=""/>
          <p:cNvPicPr/>
          <p:nvPr/>
        </p:nvPicPr>
        <p:blipFill>
          <a:blip r:embed="rId1"/>
          <a:stretch/>
        </p:blipFill>
        <p:spPr>
          <a:xfrm>
            <a:off x="5308560" y="118116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78560" y="196344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3320" y="282096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0960" y="371772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91360" y="339408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7520" y="1629720"/>
            <a:ext cx="1686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8120" y="242388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8200" y="1487160"/>
            <a:ext cx="4757760" cy="343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Based on Adaptive MultiBeam OFDM (AMB-OF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Deliver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aunching BeamPlex™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5451480"/>
            <a:ext cx="3586320" cy="52056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4840" y="1992240"/>
            <a:ext cx="4790880" cy="34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Beamforming and Spectral 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Optimal M-branch diversity comb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t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4 dB fade marg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Huge increase in useable path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ell area by factor of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indoo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0" t="0" r="0" b="7137"/>
          <a:stretch/>
        </p:blipFill>
        <p:spPr>
          <a:xfrm>
            <a:off x="4762440" y="2136600"/>
            <a:ext cx="4381560" cy="281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65680" y="5066640"/>
            <a:ext cx="43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ability Distribution of SNR (dB) for M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44280" y="1923480"/>
            <a:ext cx="7628040" cy="367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Near symmetrical link rates at cel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b/s down, net of MAC &amp; PHY 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Mb/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Sub-rate services and settable SLAs</a:t>
            </a: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Very high capacity p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able up to 220 Mb/s in 24 MHz of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sands of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0 times intra-cell frequency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frequency reuse in adjace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 Rate &amp;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87760" y="723600"/>
            <a:ext cx="6262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87480" y="2030400"/>
          <a:ext cx="762300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030400"/>
                    <a:ext cx="762300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of AMB-OFDM vs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8840" y="4875120"/>
            <a:ext cx="259308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tral e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0.5- 0.75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9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2280" y="4951440"/>
            <a:ext cx="212220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24-27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2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5440" y="1434960"/>
          <a:ext cx="379224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434960"/>
                    <a:ext cx="37922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657680" y="1455840"/>
          <a:ext cx="4291200" cy="23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7680" y="1455840"/>
                    <a:ext cx="42912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33280" y="3986280"/>
            <a:ext cx="12870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18360" y="21160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4720" y="29415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CPE &amp;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4640" y="1933560"/>
            <a:ext cx="135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utdoor Inst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6760" y="59151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us (m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30400" y="1708200"/>
            <a:ext cx="2152440" cy="2385000"/>
            <a:chOff x="1130400" y="1708200"/>
            <a:chExt cx="2152440" cy="2385000"/>
          </a:xfrm>
        </p:grpSpPr>
        <p:sp>
          <p:nvSpPr>
            <p:cNvPr id="136" name=""/>
            <p:cNvSpPr/>
            <p:nvPr/>
          </p:nvSpPr>
          <p:spPr>
            <a:xfrm>
              <a:off x="1320480" y="3755880"/>
              <a:ext cx="188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Cell 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130400" y="1708200"/>
            <a:ext cx="2152440" cy="194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0400" y="1708200"/>
                      <a:ext cx="215244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1600920" y="2403360"/>
              <a:ext cx="1213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9200" y="1857240"/>
              <a:ext cx="13510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Out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72120" y="1219320"/>
            <a:ext cx="4681440" cy="2835000"/>
          </a:xfrm>
          <a:prstGeom prst="rect">
            <a:avLst/>
          </a:prstGeom>
          <a:ln w="0">
            <a:noFill/>
          </a:ln>
        </p:spPr>
      </p:pic>
      <p:pic>
        <p:nvPicPr>
          <p:cNvPr id="142" name="6c" descr=""/>
          <p:cNvPicPr/>
          <p:nvPr/>
        </p:nvPicPr>
        <p:blipFill>
          <a:blip r:embed="rId4"/>
          <a:stretch/>
        </p:blipFill>
        <p:spPr>
          <a:xfrm>
            <a:off x="7142040" y="4348080"/>
            <a:ext cx="1204920" cy="150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36640" y="586440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Out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2760" y="4098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In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640" y="4308480"/>
            <a:ext cx="64216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integrated, ASIC based C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options to minimize truck rolls and maximize cel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indoor with window mounted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x of indoor and outdoor eaves mounted for larger cell radiu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38160" y="1563840"/>
          <a:ext cx="7631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63840"/>
                    <a:ext cx="7631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Karen Crain</cp:lastModifiedBy>
  <cp:lastPrinted>2000-12-08T01:40:16Z</cp:lastPrinted>
  <dcterms:modified xsi:type="dcterms:W3CDTF">2002-02-08T22:41:35Z</dcterms:modified>
  <cp:revision>814</cp:revision>
  <dc:subject>Investor Presentation</dc:subject>
  <dc:title>Radix Technologies</dc:title>
</cp:coreProperties>
</file>