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wmf" ContentType="image/x-wmf"/>
  <Override PartName="/ppt/media/image20.png" ContentType="image/png"/>
  <Override PartName="/ppt/media/image18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8.png" ContentType="image/png"/>
  <Override PartName="/ppt/media/image30.png" ContentType="image/png"/>
  <Override PartName="/ppt/media/image13.wmf" ContentType="image/x-wmf"/>
  <Override PartName="/ppt/media/image9.wmf" ContentType="image/x-wmf"/>
  <Override PartName="/ppt/media/image39.wmf" ContentType="image/x-wmf"/>
  <Override PartName="/ppt/media/image32.png" ContentType="image/png"/>
  <Override PartName="/ppt/media/image35.png" ContentType="image/png"/>
  <Override PartName="/ppt/media/image37.png" ContentType="image/png"/>
  <Override PartName="/ppt/media/image34.jpeg" ContentType="image/jpeg"/>
  <Override PartName="/ppt/media/image36.png" ContentType="image/png"/>
  <Override PartName="/ppt/media/image8.wmf" ContentType="image/x-wmf"/>
  <Override PartName="/ppt/media/image33.jpeg" ContentType="image/jpeg"/>
  <Override PartName="/ppt/media/image5.wmf" ContentType="image/x-wmf"/>
  <Override PartName="/ppt/media/image38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14.wmf" ContentType="image/x-wmf"/>
  <Override PartName="/ppt/media/image31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75B0-9B28-4DAF-8329-3D64A5CE5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96AE-30B9-40DD-86B8-F356DD1A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9E85-0461-419F-8932-D18907411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BC38-0647-498E-B344-68FDB0182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6EEF-62B2-4CF8-9A34-73E18279B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BECC-30EA-4EBA-A92F-F3C4917C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7D43-EEA1-459E-B315-52C6B381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228A-A72E-4670-8BDA-DADA13D4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A7BE-8AE8-4D5C-BDBD-22DB5A28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B079-1AE5-4352-BA7E-C2BB92C9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E50CA-E2EB-41BD-94E5-A9322198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4CE9-D27F-41C8-B71F-C5A6D7A4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96B2-59B3-4093-AA45-470D4A21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B116-EAC9-457E-B547-C495066B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5FC7-0CF4-479B-8FC3-FC029CEA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EAB87-AD15-4A3B-8962-914D85DA8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59575-39CA-498F-99F6-37FE4FF72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2DFC-4879-44ED-AA90-ACE0E44A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DBAA-8B7E-4699-8CDC-419899D1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C611-CF08-4601-B0B5-CA0C1114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6B17-45AD-4625-8693-991D3531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C087-21F7-4C33-8F1A-57399396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2947-2389-40E8-A26C-F42BACA1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DE6C-63B6-4E60-8186-175B2F41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7111-B8C1-4BBF-AFB0-4AD8C18383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7F57-52CA-4349-817B-85AA1345E0B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-Commer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 W. Purb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@itb.ac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@indo.net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idang Aplikasi E-Com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523880"/>
          <a:ext cx="8686800" cy="53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686800" cy="53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luang &amp; Kendala E-Co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0" y="1828800"/>
          <a:ext cx="9144000" cy="48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9144000" cy="48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-Commerce Teori-nya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ktifitas di Indones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septualisasi Pengembangan Wilaya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s. Business - Custom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1828800"/>
          <a:ext cx="91440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9144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s. Business - Busin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0" y="2057400"/>
          <a:ext cx="914400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57400"/>
                    <a:ext cx="91440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 (EDI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ksi text based melalui jaring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aksi standard dengan berbagai instans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ve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ja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unci adalah database &amp; software EDI translat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o Whom EDI Can Be Used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king / fund transfer / credit / debit trans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stom; Legal 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rline / ticketing; Shipping / car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nder / contract; Purchase order; Invo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ob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dical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x; Reinsur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jor cost to move to ED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rchase EDI softwa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act with a VAN service provider (or Internet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the data analysis needed to map information from their application systems into the EDI standard form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the programming required to create a file that can interface with EDI translation softwa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atabase dibalik Web Ser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antangan Selanjutnya 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nowledge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Knowled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rning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llaborative 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ion L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1143000" y="4952880"/>
            <a:ext cx="1066680" cy="99072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2743200" y="4495680"/>
            <a:ext cx="99072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00400" y="1371600"/>
            <a:ext cx="4648320" cy="29718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.2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UN/EDIFAC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4572000" y="4648320"/>
            <a:ext cx="99072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4724280" y="2286000"/>
            <a:ext cx="99072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77120" y="4495680"/>
            <a:ext cx="99036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6019920" y="2286000"/>
            <a:ext cx="1218960" cy="10666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4876920"/>
            <a:ext cx="1219320" cy="1218960"/>
          </a:xfrm>
          <a:prstGeom prst="diamond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6477120" y="4419720"/>
            <a:ext cx="99036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4572000" y="4648320"/>
            <a:ext cx="99072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2743200" y="4495680"/>
            <a:ext cx="99072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1143000" y="4952880"/>
            <a:ext cx="1066680" cy="99072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 of EDI Mess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"/>
          <p:cNvSpPr/>
          <p:nvPr/>
        </p:nvSpPr>
        <p:spPr>
          <a:xfrm>
            <a:off x="826200" y="1433520"/>
            <a:ext cx="708660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*850*0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*00*SA*EDI-9966***8508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*5-67778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1*ST*THE CORNER STORE*09*079933212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601 FIRST ST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4*CROSSROADS*NY*10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900 EASY ST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*PD*JOHN JONES**TE*415-744-86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D*01*03*2.000***10**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B*CC*****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M*002*8510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1*1*16000.00*LB*1.25000*QT*PN*1000201675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T*2*36000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*22*0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-Comm Teori-nya 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 of EDI Mess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826200" y="1433520"/>
            <a:ext cx="708660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*850*0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*00*SA*EDI-9966***8508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*5-67778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1*ST*THE CORNER STORE*09*079933212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601 FIRST ST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4*CROSSROADS*NY*10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900 EASY ST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*PD*JOHN JONES**TE*415-744-86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D*01*03*2.000***10**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B*CC*****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M*002*8510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1*1*16000.00*LB*1.25000*QT*PN*1000201675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T*2*36000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*22*0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2521080" y="2139840"/>
            <a:ext cx="6540480" cy="3568680"/>
          </a:xfrm>
          <a:custGeom>
            <a:avLst/>
            <a:gdLst>
              <a:gd name="textAreaLeft" fmla="*/ 360 w 6540480"/>
              <a:gd name="textAreaRight" fmla="*/ 6541200 w 6540480"/>
              <a:gd name="textAreaTop" fmla="*/ 0 h 3568680"/>
              <a:gd name="textAreaBottom" fmla="*/ 3569040 h 356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CII Text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Transport via E-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Transport via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Protect, 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sing PGP, PEM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c00"/>
                    </a:solidFill>
                    <a:miter/>
                  </a:ln>
                  <a:effectLst>
                    <a:outerShdw dist="107932" dir="2700000" blurRad="0" rotWithShape="0">
                      <a:srgbClr val="808000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c00"/>
                    </a:solidFill>
                    <a:miter/>
                  </a:ln>
                  <a:effectLst>
                    <a:outerShdw dist="107932" dir="2700000" blurRad="0" rotWithShape="0">
                      <a:srgbClr val="808000"/>
                    </a:outerShdw>
                  </a:effectLst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 flipH="1" rot="10800000">
            <a:off x="767160" y="3663720"/>
            <a:ext cx="6769080" cy="250164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92520 h 2501640"/>
              <a:gd name="textAreaBottom" fmla="*/ 1998000 h 25016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low The User to Connect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AN &amp; Inter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c00"/>
                    </a:solidFill>
                    <a:miter/>
                  </a:ln>
                  <a:effectLst>
                    <a:outerShdw dist="107932" dir="2700000" blurRad="0" rotWithShape="0">
                      <a:srgbClr val="808000"/>
                    </a:outerShdw>
                  </a:effectLst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4121280" y="1682640"/>
            <a:ext cx="4940280" cy="2425680"/>
          </a:xfrm>
          <a:custGeom>
            <a:avLst/>
            <a:gdLst>
              <a:gd name="textAreaLeft" fmla="*/ 182880 w 4940280"/>
              <a:gd name="textAreaRight" fmla="*/ 4757400 w 4940280"/>
              <a:gd name="textAreaTop" fmla="*/ 89640 h 2425680"/>
              <a:gd name="textAreaBottom" fmla="*/ 1937160 h 24256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rewall To Prot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c00"/>
                    </a:solidFill>
                    <a:miter/>
                  </a:ln>
                  <a:effectLst>
                    <a:outerShdw dist="107932" dir="2700000" blurRad="0" rotWithShape="0">
                      <a:srgbClr val="808000"/>
                    </a:outerShdw>
                  </a:effectLst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 flipH="1" rot="10800000">
            <a:off x="4730760" y="3359160"/>
            <a:ext cx="4330800" cy="2882880"/>
          </a:xfrm>
          <a:custGeom>
            <a:avLst/>
            <a:gdLst>
              <a:gd name="textAreaLeft" fmla="*/ 160200 w 4330800"/>
              <a:gd name="textAreaRight" fmla="*/ 4170600 w 4330800"/>
              <a:gd name="textAreaTop" fmla="*/ 106560 h 2882880"/>
              <a:gd name="textAreaBottom" fmla="*/ 2302560 h 2882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unneling 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reate Extra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Virtual VA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c00"/>
                    </a:solidFill>
                    <a:miter/>
                  </a:ln>
                  <a:effectLst>
                    <a:outerShdw dist="107932" dir="2700000" blurRad="0" rotWithShape="0">
                      <a:srgbClr val="808000"/>
                    </a:outerShdw>
                  </a:effectLst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3968640" y="3206880"/>
            <a:ext cx="5092920" cy="2730240"/>
          </a:xfrm>
          <a:custGeom>
            <a:avLst/>
            <a:gdLst>
              <a:gd name="textAreaLeft" fmla="*/ 188640 w 5092920"/>
              <a:gd name="textAreaRight" fmla="*/ 4904640 w 5092920"/>
              <a:gd name="textAreaTop" fmla="*/ 100800 h 2730240"/>
              <a:gd name="textAreaBottom" fmla="*/ 2180520 h 27302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GP / PEM f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ed Pro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actical Implement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. Houser, J. Griffin &amp; C. Hage, “Request for Comments: 1865: EDI Meets the Internet - Frequently Asked Questions about Electronic Data Interchange (EDI) on the Internet”, January 1996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suk ke Internet 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blinds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rvey Potens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&amp; Profile Us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419360" y="2666520"/>
            <a:ext cx="464796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ffic Web Indones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rvey User Pro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079640" y="1994040"/>
          <a:ext cx="3014640" cy="37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1994040"/>
                    <a:ext cx="3014640" cy="37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oh Traffic Web Indones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0-80% traffic datangnya dari / ke Indones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est informasi Web yang agak banyak datangnya dar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.com di Amerika Serik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.edu di Amerika Serik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.sg di Singapu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sar traffic Web  harian mencapai 80-100Mby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rategi Perdagang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ga Bersa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tu Tingg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tepatan Waktu sampai ke Pas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oh Profile User Hasil Sebuah Stud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arakteritik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ference and Perce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Sources &amp; Distribution Chann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duc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5842080" y="2454120"/>
          <a:ext cx="3089160" cy="430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42080" y="2454120"/>
                    <a:ext cx="3089160" cy="430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mum Well Educated .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kar menemukan User Internet yang hanya berpendidikan SD :-)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 dominasi oleh P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mumnya single atau tidak punya ana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umnya Antara 25-35 Tahu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sih Relatif Mud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com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 Amerika Serik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ata-rata US$ 65.000 per tah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 Erop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ata-rata US$ 42.000 per tah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197320" y="4648320"/>
          <a:ext cx="3616560" cy="20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7320" y="4648320"/>
                    <a:ext cx="36165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149400" y="4560840"/>
          <a:ext cx="5178240" cy="222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9400" y="4560840"/>
                    <a:ext cx="517824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ipe Perusahaan Yang Akan di Untungk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lam Waktu Dek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Perusahaan Kec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(&lt;100 Pegawai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unci Keberhasil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65120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reativit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ustomizabilit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onvenienc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5000760" y="2097000"/>
          <a:ext cx="3706560" cy="33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760" y="2097000"/>
                    <a:ext cx="3706560" cy="33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in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Total Customer Satisfa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rategi Umum 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rategi Umu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o a competitive analysis and remember content is 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name of the game is the domai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on't waste your time, do a timeli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spond, respond, respo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o on the circu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oh Offensive di Lapang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ada Indonesia Technology Net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ng-cilik@isnet.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radisional vs Elektroni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lit promosi &amp; akses pas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timpangan persaingan daga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per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konomi biaya tinggi &amp; birokra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edu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ar kurang kompetiti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kses pasar muda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nilaian independ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siasi &amp; penawaran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mudahan permintaan produk bar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ur informasi transpar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layanan interakti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nada Indonesia TechNet (CITN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power SMEs (Small Medium Enterpri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ucation, Research, NGO, Gov’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adian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tn-ctn@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tnjkt@ibm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ITN - CTN Mapp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219320" y="1486080"/>
          <a:ext cx="7086600" cy="53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86080"/>
                    <a:ext cx="7086600" cy="53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ong-cilik@isnet.itb.ac.i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lman, RCTI, Bank, Dept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ng-cilik@isnet.itb.ac.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ong-cilik mapp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990720" y="1165320"/>
          <a:ext cx="8153280" cy="61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165320"/>
                    <a:ext cx="8153280" cy="61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PAN Agriculture W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griculture@apan.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Knowledge on Agricul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pporting Technolo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und Card Packet Radi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00-9600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 + Sound Card +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home.pages.de/~flexnet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arch Internet: (Keywor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TT FlexNet via Seri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47" name="ptt_ser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53452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ycom Packet Radi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533520" y="1752480"/>
          <a:ext cx="8610480" cy="464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8610480" cy="46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-3240" y="-3240"/>
          <a:ext cx="9074160" cy="678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881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RADI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ADIO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hared Web Acc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3.6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 Windows / Linux / FreeBSD +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download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arch Internet: (Keywor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g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al Shared Web Acc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0" y="2514600"/>
          <a:ext cx="8839080" cy="27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14600"/>
                    <a:ext cx="883908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rtual Ho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3.6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 Windows / Linux / FreeBSD +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download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arch Internet: (Keywor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g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i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rtual Ho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304920" y="1600200"/>
          <a:ext cx="8839080" cy="43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883908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aveLAN CDM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-10 km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in Router + Ethernet connec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hydra.carleton.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aveLAN (CDMA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0" y="1774800"/>
          <a:ext cx="9144000" cy="508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4800"/>
                    <a:ext cx="914400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781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</p:spTree>
  </p:cSld>
  <p:transition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ational Tra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762120" y="1504800"/>
          <a:ext cx="8076960" cy="5353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04800"/>
                    <a:ext cx="8076960" cy="5353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mateur Packet Satelli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FOTO-13" descr=""/>
          <p:cNvPicPr/>
          <p:nvPr/>
        </p:nvPicPr>
        <p:blipFill>
          <a:blip r:embed="rId1"/>
          <a:stretch/>
        </p:blipFill>
        <p:spPr>
          <a:xfrm>
            <a:off x="0" y="120600"/>
            <a:ext cx="9144000" cy="661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FOT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 Telepho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 Telepho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0" name="ipfax_white1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 Call Wai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2" name="ipfax_white3" descr=""/>
          <p:cNvPicPr/>
          <p:nvPr/>
        </p:nvPicPr>
        <p:blipFill>
          <a:blip r:embed="rId1"/>
          <a:stretch/>
        </p:blipFill>
        <p:spPr>
          <a:xfrm>
            <a:off x="380880" y="1625760"/>
            <a:ext cx="845820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al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4" name="ip5_dialer" descr=""/>
          <p:cNvPicPr/>
          <p:nvPr/>
        </p:nvPicPr>
        <p:blipFill>
          <a:blip r:embed="rId1"/>
          <a:stretch/>
        </p:blipFill>
        <p:spPr>
          <a:xfrm>
            <a:off x="6006960" y="0"/>
            <a:ext cx="313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-Commerce Glob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066680" y="1674720"/>
          <a:ext cx="7315200" cy="518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74720"/>
                    <a:ext cx="7315200" cy="5183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7e988b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deo Confere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6" name="ip5_scrnphone" descr=""/>
          <p:cNvPicPr/>
          <p:nvPr/>
        </p:nvPicPr>
        <p:blipFill>
          <a:blip r:embed="rId1"/>
          <a:stretch/>
        </p:blipFill>
        <p:spPr>
          <a:xfrm>
            <a:off x="5857920" y="0"/>
            <a:ext cx="328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onseptualisasi 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3892680" y="1911240"/>
            <a:ext cx="5168880" cy="3416400"/>
          </a:xfrm>
          <a:custGeom>
            <a:avLst/>
            <a:gdLst>
              <a:gd name="textAreaLeft" fmla="*/ 191160 w 5168880"/>
              <a:gd name="textAreaRight" fmla="*/ 4977720 w 5168880"/>
              <a:gd name="textAreaTop" fmla="*/ 126360 h 3416400"/>
              <a:gd name="textAreaBottom" fmla="*/ 2728440 h 34164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embangunan Bertump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da Gerakan Bottom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i Koperasi-Kopera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1758960" y="2063880"/>
            <a:ext cx="6921360" cy="3568680"/>
          </a:xfrm>
          <a:custGeom>
            <a:avLst/>
            <a:gdLst>
              <a:gd name="textAreaLeft" fmla="*/ 256320 w 6921360"/>
              <a:gd name="textAreaRight" fmla="*/ 6665040 w 6921360"/>
              <a:gd name="textAreaTop" fmla="*/ 132120 h 3568680"/>
              <a:gd name="textAreaBottom" fmla="*/ 2850120 h 35686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danya Sistem Informa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emudahkan Interle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ntar Kopera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4425840" y="387360"/>
            <a:ext cx="4635720" cy="3645000"/>
          </a:xfrm>
          <a:custGeom>
            <a:avLst/>
            <a:gdLst>
              <a:gd name="textAreaLeft" fmla="*/ 171360 w 4635720"/>
              <a:gd name="textAreaRight" fmla="*/ 4464360 w 4635720"/>
              <a:gd name="textAreaTop" fmla="*/ 135000 h 3645000"/>
              <a:gd name="textAreaBottom" fmla="*/ 2910960 h 36450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teraksi Deng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stem Di Atasny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enjadi lebih mud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06" name=""/>
          <p:cNvSpPr/>
          <p:nvPr/>
        </p:nvSpPr>
        <p:spPr>
          <a:xfrm>
            <a:off x="1835280" y="6480"/>
            <a:ext cx="6769080" cy="257796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95400 h 2577960"/>
              <a:gd name="textAreaBottom" fmla="*/ 2058840 h 25779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istem Ekonomi Nas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3892680" y="6480"/>
            <a:ext cx="5168880" cy="2654280"/>
          </a:xfrm>
          <a:custGeom>
            <a:avLst/>
            <a:gdLst>
              <a:gd name="textAreaLeft" fmla="*/ 191160 w 5168880"/>
              <a:gd name="textAreaRight" fmla="*/ 4977720 w 5168880"/>
              <a:gd name="textAreaTop" fmla="*/ 98280 h 2654280"/>
              <a:gd name="textAreaBottom" fmla="*/ 2119680 h 26542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eographics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 flipH="1">
            <a:off x="81720" y="6480"/>
            <a:ext cx="6769080" cy="242568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89640 h 2425680"/>
              <a:gd name="textAreaBottom" fmla="*/ 1937160 h 24256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and Information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 rot="16200000">
            <a:off x="-69480" y="2825280"/>
            <a:ext cx="2501640" cy="2349360"/>
          </a:xfrm>
          <a:prstGeom prst="rightArrow">
            <a:avLst>
              <a:gd name="adj1" fmla="val 50000"/>
              <a:gd name="adj2" fmla="val 53245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2368440" y="1378080"/>
            <a:ext cx="6693120" cy="5244840"/>
          </a:xfrm>
          <a:custGeom>
            <a:avLst/>
            <a:gdLst>
              <a:gd name="textAreaLeft" fmla="*/ 360 w 6693120"/>
              <a:gd name="textAreaRight" fmla="*/ 6693840 w 6693120"/>
              <a:gd name="textAreaTop" fmla="*/ 0 h 5244840"/>
              <a:gd name="textAreaBottom" fmla="*/ 5245200 h 524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timasi Tingkat Bunga Yang A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rilaku Masyarakat Dal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nggunaan Sumber Daya Lok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okasi Dana Tingkat Kelu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udy Pola Investas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ase Inovasi E-Commer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ation: penghematan biay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ansion:peningkatan performan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: nilai tambah bar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62120" y="2133720"/>
          <a:ext cx="7084800" cy="52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33720"/>
                    <a:ext cx="70848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 flipH="1" rot="16200000">
            <a:off x="-546840" y="2844720"/>
            <a:ext cx="3492360" cy="2311560"/>
          </a:xfrm>
          <a:prstGeom prst="rightArrow">
            <a:avLst>
              <a:gd name="adj1" fmla="val 50000"/>
              <a:gd name="adj2" fmla="val 75548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2521080" y="463680"/>
            <a:ext cx="6387840" cy="6311880"/>
          </a:xfrm>
          <a:custGeom>
            <a:avLst/>
            <a:gdLst>
              <a:gd name="textAreaLeft" fmla="*/ 360 w 6387840"/>
              <a:gd name="textAreaRight" fmla="*/ 6388560 w 6387840"/>
              <a:gd name="textAreaTop" fmla="*/ 0 h 6311880"/>
              <a:gd name="textAreaBottom" fmla="*/ 6312240 h 631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asar Komodi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gulasi &amp; Peratur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knologi Tepat Gu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akwa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formasi Management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rganiz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re Patter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ople Networ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Empower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mand Crea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Technology Supp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9T09:48:31Z</dcterms:created>
  <dc:creator>Onno W. Purbo</dc:creator>
  <dc:description/>
  <dc:language>en-US</dc:language>
  <cp:lastModifiedBy>Onno W. Purbo</cp:lastModifiedBy>
  <dcterms:modified xsi:type="dcterms:W3CDTF">1999-06-29T02:23:48Z</dcterms:modified>
  <cp:revision>24</cp:revision>
  <dc:subject/>
  <dc:title>No Slide Title</dc:title>
</cp:coreProperties>
</file>