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BC8-CF16-429A-8FA2-F615DBAC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512-2AB2-49A3-8195-F8EB2880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B95-B735-4801-B40F-B4A6FFFF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57D-C686-48FF-98C0-A56AEC73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30AB-08EF-46FC-88C4-EE13D17E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7A6C-8F9E-47B4-AEC1-6B786E20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A45B-868F-4AFA-87E7-AB85E7B0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B171-C67D-4CC2-B4B3-774CE311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2C5D-8B00-4C27-92E1-5EA7A8B8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453A-9A93-44F8-B66C-F7EFB617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B40B-4A11-4464-95D3-A27A6DE7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BDDC-F3A0-4A8D-921B-96359FD6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D5B8-5500-487D-BE66-5084E26B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6EF9-7AA8-4348-A6C1-10B1880C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6C27-3CEB-4AD5-95DD-42A7F113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5E15-DA1D-4FFB-AA75-51D5DA2C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6644-A581-494E-B0DE-64DA0FC9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354-8B14-42E0-BEA7-25445DB3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A80-C597-440B-9C7B-4BF033E6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3D0E-6AE0-46D7-B9C2-093A821A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016A-E1EA-4C8C-B701-DCF33B48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ED6D-ED0D-4F5A-ADFE-F21DEAC8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B2CA-F895-4BA8-A4D9-DB6D240A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9499-606F-4F3C-B778-1C33C4B8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419C-4D0B-410F-818B-8B9AE61FE5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A9F5-20DE-4183-A1F7-17EFD38597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Infrastruktur Informasi Untuk Bang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Rantai 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2422440"/>
          <a:ext cx="91440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2440"/>
                    <a:ext cx="91440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8960" y="3352680"/>
            <a:ext cx="6013440" cy="2279880"/>
          </a:xfrm>
          <a:custGeom>
            <a:avLst/>
            <a:gdLst>
              <a:gd name="textAreaLeft" fmla="*/ 222480 w 6013440"/>
              <a:gd name="textAreaRight" fmla="*/ 5790960 w 6013440"/>
              <a:gd name="textAreaTop" fmla="*/ 84240 h 2279880"/>
              <a:gd name="textAreaBottom" fmla="*/ 1820880 h 2279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5840" y="1600200"/>
            <a:ext cx="4635720" cy="243216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90000 h 2432160"/>
              <a:gd name="textAreaBottom" fmla="*/ 1942560 h 2432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838080"/>
            <a:ext cx="6769080" cy="17463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990720"/>
            <a:ext cx="5403600" cy="1593720"/>
          </a:xfrm>
          <a:custGeom>
            <a:avLst/>
            <a:gdLst>
              <a:gd name="textAreaLeft" fmla="*/ 199800 w 5403600"/>
              <a:gd name="textAreaRight" fmla="*/ 5203800 w 5403600"/>
              <a:gd name="textAreaTop" fmla="*/ 59040 h 1593720"/>
              <a:gd name="textAreaBottom" fmla="*/ 1272960 h 15937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asar Komod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92680" y="914400"/>
            <a:ext cx="5168880" cy="174636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1720" y="685800"/>
            <a:ext cx="6769080" cy="17463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isari e-Dagang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= komunika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percayaan (trus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nis-to-bis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nis-to-custo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ori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s. Business - Custom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menggunakan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menggunakan WARN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 /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s. Business - 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2622600"/>
          <a:ext cx="914400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2600"/>
                    <a:ext cx="914400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 (ED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kus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dukung Transaksi Dagang Sekala Kec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kung Pengembangan Knowledge Management Bang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 Whom EDI Can Be Us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jor cost to move to ED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base dibalik Web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Pendekatan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istis untuk di-implementasikan secara swadaya masyarak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tom-up &amp; tidak didanai oleh BAPPENAS apalagi utang ke IMF / WB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oh gerakan offensive yang sedang terjadi dilapa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EDI Mess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EDI Mess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TCP/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Teknologi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erbit PT. Elexmedia Komputi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o Buku Gra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a@elexmedia.co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actical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menggunakan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menggunakan WARN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 /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= komun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ffisie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ta membutuhkan kemampuan kompet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886200" y="4800600"/>
            <a:ext cx="5029200" cy="1447920"/>
          </a:xfrm>
          <a:prstGeom prst="wedgeRectCallout">
            <a:avLst>
              <a:gd name="adj1" fmla="val -60134"/>
              <a:gd name="adj2" fmla="val 7609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mpetitiveness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Pengetahu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mampuan Kompetitif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ncari Model Sederhana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066680" y="2070000"/>
          <a:ext cx="8028000" cy="478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070000"/>
                    <a:ext cx="802800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 Sementa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kya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mb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Lambat … cocok bagi rakyat banya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Peranta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dak Berarti Internally Sl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sempat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Dunia Lamb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sa Lihat / Dengar / Ba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si 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205740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N2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n21.ac-id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ylti.or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257800" y="0"/>
          <a:ext cx="3886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0"/>
                    <a:ext cx="388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0" y="2330280"/>
          <a:ext cx="9144000" cy="25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30280"/>
                    <a:ext cx="914400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2133720"/>
          <a:ext cx="914400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914400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Penting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 e-dagang buat raky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 menuju masyarakat pengetahuan (knowledge based society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ing teknologi Informasi sederh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lized / distribu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isasi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ting (ICR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p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sh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mai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851120"/>
          <a:ext cx="9144000" cy="50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1120"/>
                    <a:ext cx="914400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286000" y="685800"/>
            <a:ext cx="5181480" cy="2057400"/>
          </a:xfrm>
          <a:prstGeom prst="wedgeRoundRectCallout">
            <a:avLst>
              <a:gd name="adj1" fmla="val 35476"/>
              <a:gd name="adj2" fmla="val 96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erantara ke Masyarak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edia Massa / L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snis – to – Bisn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– to –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isi datab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mbaga Penelitian / Pendidik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ta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Mas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 Technology Knowledg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nabling Knowledge Manage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1995480"/>
            <a:ext cx="9143640" cy="4772160"/>
            <a:chOff x="0" y="1995480"/>
            <a:chExt cx="9143640" cy="4772160"/>
          </a:xfrm>
        </p:grpSpPr>
        <p:sp>
          <p:nvSpPr>
            <p:cNvPr id="269" name=""/>
            <p:cNvSpPr/>
            <p:nvPr/>
          </p:nvSpPr>
          <p:spPr>
            <a:xfrm>
              <a:off x="8192520" y="5312160"/>
              <a:ext cx="951120" cy="1433160"/>
            </a:xfrm>
            <a:custGeom>
              <a:avLst/>
              <a:gdLst/>
              <a:ahLst/>
              <a:rect l="l" t="t" r="r" b="b"/>
              <a:pathLst>
                <a:path w="575" h="709">
                  <a:moveTo>
                    <a:pt x="271" y="708"/>
                  </a:moveTo>
                  <a:lnTo>
                    <a:pt x="0" y="301"/>
                  </a:lnTo>
                  <a:lnTo>
                    <a:pt x="254" y="0"/>
                  </a:lnTo>
                  <a:lnTo>
                    <a:pt x="574" y="352"/>
                  </a:lnTo>
                  <a:lnTo>
                    <a:pt x="271" y="708"/>
                  </a:lnTo>
                </a:path>
              </a:pathLst>
            </a:custGeom>
            <a:solidFill>
              <a:srgbClr val="9090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87160" y="5312160"/>
              <a:ext cx="4427280" cy="612720"/>
            </a:xfrm>
            <a:custGeom>
              <a:avLst/>
              <a:gdLst/>
              <a:ahLst/>
              <a:rect l="l" t="t" r="r" b="b"/>
              <a:pathLst>
                <a:path w="2676" h="303">
                  <a:moveTo>
                    <a:pt x="0" y="302"/>
                  </a:moveTo>
                  <a:lnTo>
                    <a:pt x="2421" y="302"/>
                  </a:lnTo>
                  <a:lnTo>
                    <a:pt x="2675" y="0"/>
                  </a:lnTo>
                  <a:lnTo>
                    <a:pt x="342" y="0"/>
                  </a:lnTo>
                  <a:lnTo>
                    <a:pt x="0" y="302"/>
                  </a:lnTo>
                </a:path>
              </a:pathLst>
            </a:custGeom>
            <a:solidFill>
              <a:srgbClr val="7800c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56960" y="5924880"/>
              <a:ext cx="4886640" cy="812160"/>
            </a:xfrm>
            <a:custGeom>
              <a:avLst/>
              <a:gdLst/>
              <a:ahLst/>
              <a:rect l="l" t="t" r="r" b="b"/>
              <a:pathLst>
                <a:path w="2954" h="402">
                  <a:moveTo>
                    <a:pt x="259" y="0"/>
                  </a:moveTo>
                  <a:lnTo>
                    <a:pt x="2680" y="0"/>
                  </a:lnTo>
                  <a:lnTo>
                    <a:pt x="2953" y="401"/>
                  </a:lnTo>
                  <a:lnTo>
                    <a:pt x="0" y="401"/>
                  </a:lnTo>
                  <a:lnTo>
                    <a:pt x="259" y="0"/>
                  </a:lnTo>
                </a:path>
              </a:pathLst>
            </a:custGeom>
            <a:solidFill>
              <a:srgbClr val="3c3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99320" y="4445280"/>
              <a:ext cx="840240" cy="1295280"/>
            </a:xfrm>
            <a:custGeom>
              <a:avLst/>
              <a:gdLst/>
              <a:ahLst/>
              <a:rect l="l" t="t" r="r" b="b"/>
              <a:pathLst>
                <a:path w="508" h="641">
                  <a:moveTo>
                    <a:pt x="258" y="640"/>
                  </a:moveTo>
                  <a:lnTo>
                    <a:pt x="0" y="224"/>
                  </a:lnTo>
                  <a:lnTo>
                    <a:pt x="189" y="0"/>
                  </a:lnTo>
                  <a:lnTo>
                    <a:pt x="507" y="353"/>
                  </a:lnTo>
                  <a:lnTo>
                    <a:pt x="258" y="640"/>
                  </a:lnTo>
                </a:path>
              </a:pathLst>
            </a:custGeom>
            <a:solidFill>
              <a:srgbClr val="ff2f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88280" y="4445280"/>
              <a:ext cx="3326760" cy="456480"/>
            </a:xfrm>
            <a:custGeom>
              <a:avLst/>
              <a:gdLst/>
              <a:ahLst/>
              <a:rect l="l" t="t" r="r" b="b"/>
              <a:pathLst>
                <a:path w="2011" h="226">
                  <a:moveTo>
                    <a:pt x="0" y="225"/>
                  </a:moveTo>
                  <a:lnTo>
                    <a:pt x="1821" y="225"/>
                  </a:lnTo>
                  <a:lnTo>
                    <a:pt x="2010" y="0"/>
                  </a:lnTo>
                  <a:lnTo>
                    <a:pt x="360" y="1"/>
                  </a:lnTo>
                  <a:lnTo>
                    <a:pt x="0" y="225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66720" y="4906080"/>
              <a:ext cx="3861000" cy="842760"/>
            </a:xfrm>
            <a:custGeom>
              <a:avLst/>
              <a:gdLst/>
              <a:ahLst/>
              <a:rect l="l" t="t" r="r" b="b"/>
              <a:pathLst>
                <a:path w="2334" h="417">
                  <a:moveTo>
                    <a:pt x="0" y="416"/>
                  </a:moveTo>
                  <a:lnTo>
                    <a:pt x="2333" y="416"/>
                  </a:lnTo>
                  <a:lnTo>
                    <a:pt x="2075" y="0"/>
                  </a:lnTo>
                  <a:lnTo>
                    <a:pt x="256" y="0"/>
                  </a:lnTo>
                  <a:lnTo>
                    <a:pt x="0" y="416"/>
                  </a:lnTo>
                </a:path>
              </a:pathLst>
            </a:custGeom>
            <a:solidFill>
              <a:srgbClr val="ff00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9640" y="3624480"/>
              <a:ext cx="734400" cy="1123560"/>
            </a:xfrm>
            <a:custGeom>
              <a:avLst/>
              <a:gdLst/>
              <a:ahLst/>
              <a:rect l="l" t="t" r="r" b="b"/>
              <a:pathLst>
                <a:path w="444" h="556">
                  <a:moveTo>
                    <a:pt x="0" y="151"/>
                  </a:moveTo>
                  <a:lnTo>
                    <a:pt x="263" y="555"/>
                  </a:lnTo>
                  <a:lnTo>
                    <a:pt x="443" y="348"/>
                  </a:lnTo>
                  <a:lnTo>
                    <a:pt x="128" y="0"/>
                  </a:lnTo>
                  <a:lnTo>
                    <a:pt x="0" y="151"/>
                  </a:lnTo>
                </a:path>
              </a:pathLst>
            </a:custGeom>
            <a:solidFill>
              <a:srgbClr val="bf5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7960" y="3624480"/>
              <a:ext cx="2223360" cy="304920"/>
            </a:xfrm>
            <a:custGeom>
              <a:avLst/>
              <a:gdLst/>
              <a:ahLst/>
              <a:rect l="l" t="t" r="r" b="b"/>
              <a:pathLst>
                <a:path w="1344" h="151">
                  <a:moveTo>
                    <a:pt x="0" y="150"/>
                  </a:moveTo>
                  <a:lnTo>
                    <a:pt x="1215" y="150"/>
                  </a:lnTo>
                  <a:lnTo>
                    <a:pt x="1343" y="0"/>
                  </a:lnTo>
                  <a:lnTo>
                    <a:pt x="339" y="0"/>
                  </a:lnTo>
                  <a:lnTo>
                    <a:pt x="0" y="150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59560" y="3921480"/>
              <a:ext cx="2874960" cy="822600"/>
            </a:xfrm>
            <a:custGeom>
              <a:avLst/>
              <a:gdLst/>
              <a:ahLst/>
              <a:rect l="l" t="t" r="r" b="b"/>
              <a:pathLst>
                <a:path w="1738" h="407">
                  <a:moveTo>
                    <a:pt x="0" y="406"/>
                  </a:moveTo>
                  <a:lnTo>
                    <a:pt x="1737" y="406"/>
                  </a:lnTo>
                  <a:lnTo>
                    <a:pt x="1474" y="0"/>
                  </a:lnTo>
                  <a:lnTo>
                    <a:pt x="259" y="0"/>
                  </a:lnTo>
                  <a:lnTo>
                    <a:pt x="0" y="406"/>
                  </a:lnTo>
                </a:path>
              </a:pathLst>
            </a:custGeom>
            <a:solidFill>
              <a:srgbClr val="9f3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98520" y="2789640"/>
              <a:ext cx="633600" cy="984240"/>
            </a:xfrm>
            <a:custGeom>
              <a:avLst/>
              <a:gdLst/>
              <a:ahLst/>
              <a:rect l="l" t="t" r="r" b="b"/>
              <a:pathLst>
                <a:path w="383" h="487">
                  <a:moveTo>
                    <a:pt x="261" y="486"/>
                  </a:moveTo>
                  <a:lnTo>
                    <a:pt x="382" y="347"/>
                  </a:lnTo>
                  <a:lnTo>
                    <a:pt x="66" y="0"/>
                  </a:lnTo>
                  <a:lnTo>
                    <a:pt x="0" y="73"/>
                  </a:lnTo>
                  <a:lnTo>
                    <a:pt x="261" y="486"/>
                  </a:lnTo>
                </a:path>
              </a:pathLst>
            </a:custGeom>
            <a:solidFill>
              <a:srgbClr val="ff9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99520" y="2787840"/>
              <a:ext cx="1108080" cy="149400"/>
            </a:xfrm>
            <a:custGeom>
              <a:avLst/>
              <a:gdLst/>
              <a:ahLst/>
              <a:rect l="l" t="t" r="r" b="b"/>
              <a:pathLst>
                <a:path w="670" h="74">
                  <a:moveTo>
                    <a:pt x="0" y="73"/>
                  </a:moveTo>
                  <a:lnTo>
                    <a:pt x="603" y="73"/>
                  </a:lnTo>
                  <a:lnTo>
                    <a:pt x="669" y="0"/>
                  </a:lnTo>
                  <a:lnTo>
                    <a:pt x="208" y="0"/>
                  </a:lnTo>
                  <a:lnTo>
                    <a:pt x="0" y="73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60680" y="2935440"/>
              <a:ext cx="1871280" cy="838800"/>
            </a:xfrm>
            <a:custGeom>
              <a:avLst/>
              <a:gdLst/>
              <a:ahLst/>
              <a:rect l="l" t="t" r="r" b="b"/>
              <a:pathLst>
                <a:path w="1131" h="415">
                  <a:moveTo>
                    <a:pt x="0" y="414"/>
                  </a:moveTo>
                  <a:lnTo>
                    <a:pt x="1130" y="414"/>
                  </a:lnTo>
                  <a:lnTo>
                    <a:pt x="868" y="0"/>
                  </a:lnTo>
                  <a:lnTo>
                    <a:pt x="263" y="0"/>
                  </a:lnTo>
                  <a:lnTo>
                    <a:pt x="0" y="414"/>
                  </a:lnTo>
                </a:path>
              </a:pathLst>
            </a:custGeom>
            <a:solidFill>
              <a:srgbClr val="f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3800" y="1995480"/>
              <a:ext cx="534600" cy="832680"/>
            </a:xfrm>
            <a:custGeom>
              <a:avLst/>
              <a:gdLst/>
              <a:ahLst/>
              <a:rect l="l" t="t" r="r" b="b"/>
              <a:pathLst>
                <a:path w="323" h="412">
                  <a:moveTo>
                    <a:pt x="262" y="411"/>
                  </a:moveTo>
                  <a:lnTo>
                    <a:pt x="322" y="347"/>
                  </a:lnTo>
                  <a:lnTo>
                    <a:pt x="0" y="0"/>
                  </a:lnTo>
                  <a:lnTo>
                    <a:pt x="262" y="411"/>
                  </a:lnTo>
                </a:path>
              </a:pathLst>
            </a:custGeom>
            <a:solidFill>
              <a:srgbClr val="7eea7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75480" y="2013480"/>
              <a:ext cx="868320" cy="832680"/>
            </a:xfrm>
            <a:custGeom>
              <a:avLst/>
              <a:gdLst/>
              <a:ahLst/>
              <a:rect l="l" t="t" r="r" b="b"/>
              <a:pathLst>
                <a:path w="525" h="412">
                  <a:moveTo>
                    <a:pt x="0" y="411"/>
                  </a:moveTo>
                  <a:lnTo>
                    <a:pt x="524" y="411"/>
                  </a:lnTo>
                  <a:lnTo>
                    <a:pt x="262" y="0"/>
                  </a:lnTo>
                  <a:lnTo>
                    <a:pt x="0" y="411"/>
                  </a:lnTo>
                </a:path>
              </a:pathLst>
            </a:custGeom>
            <a:solidFill>
              <a:srgbClr val="24ed3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25280" y="2381400"/>
              <a:ext cx="205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rowser, Mailb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6640" y="2351160"/>
              <a:ext cx="44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U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24480" y="3309120"/>
              <a:ext cx="1568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istrib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9160" y="4317840"/>
              <a:ext cx="28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cessing/Intellig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06920" y="5181120"/>
              <a:ext cx="1314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63960" y="6082200"/>
              <a:ext cx="73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89760" y="3228480"/>
              <a:ext cx="282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ublish, Push, Broad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0680" y="3960000"/>
              <a:ext cx="4511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arch/Retrieve, Agent, Information Mining, Filters, Collabo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7480" y="4907880"/>
              <a:ext cx="4253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essaging, Middleware, Workflow, WWW/Internet, GroupWare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5852160"/>
              <a:ext cx="40550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ocument Repository, DBMS, Data Warehouse, Legacy, Internet, Extran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 Load 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-9720" y="2743200"/>
            <a:ext cx="2602080" cy="3778920"/>
            <a:chOff x="-9720" y="2743200"/>
            <a:chExt cx="2602080" cy="3778920"/>
          </a:xfrm>
        </p:grpSpPr>
        <p:sp>
          <p:nvSpPr>
            <p:cNvPr id="295" name=""/>
            <p:cNvSpPr/>
            <p:nvPr/>
          </p:nvSpPr>
          <p:spPr>
            <a:xfrm>
              <a:off x="34920" y="2743200"/>
              <a:ext cx="1480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preadshe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4880" y="3321000"/>
              <a:ext cx="179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Word processing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-9720" y="4306680"/>
              <a:ext cx="1498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resent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75200" y="4987800"/>
              <a:ext cx="720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5440" y="5292720"/>
              <a:ext cx="738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14080" y="5653080"/>
              <a:ext cx="77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-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4320" y="6186240"/>
              <a:ext cx="1152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oice 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362320" y="2819520"/>
            <a:ext cx="3650760" cy="2893320"/>
            <a:chOff x="2362320" y="2819520"/>
            <a:chExt cx="3650760" cy="2893320"/>
          </a:xfrm>
        </p:grpSpPr>
        <p:grpSp>
          <p:nvGrpSpPr>
            <p:cNvPr id="303" name=""/>
            <p:cNvGrpSpPr/>
            <p:nvPr/>
          </p:nvGrpSpPr>
          <p:grpSpPr>
            <a:xfrm>
              <a:off x="4611600" y="3990960"/>
              <a:ext cx="1401480" cy="1604880"/>
              <a:chOff x="4611600" y="3990960"/>
              <a:chExt cx="1401480" cy="1604880"/>
            </a:xfrm>
          </p:grpSpPr>
          <p:sp>
            <p:nvSpPr>
              <p:cNvPr id="304" name=""/>
              <p:cNvSpPr/>
              <p:nvPr/>
            </p:nvSpPr>
            <p:spPr>
              <a:xfrm>
                <a:off x="4611600" y="4187880"/>
                <a:ext cx="1401480" cy="1407960"/>
              </a:xfrm>
              <a:custGeom>
                <a:avLst/>
                <a:gdLst/>
                <a:ahLst/>
                <a:rect l="l" t="t" r="r" b="b"/>
                <a:pathLst>
                  <a:path w="883" h="887">
                    <a:moveTo>
                      <a:pt x="0" y="0"/>
                    </a:moveTo>
                    <a:lnTo>
                      <a:pt x="0" y="703"/>
                    </a:lnTo>
                    <a:lnTo>
                      <a:pt x="2" y="726"/>
                    </a:lnTo>
                    <a:lnTo>
                      <a:pt x="17" y="751"/>
                    </a:lnTo>
                    <a:lnTo>
                      <a:pt x="43" y="777"/>
                    </a:lnTo>
                    <a:lnTo>
                      <a:pt x="69" y="799"/>
                    </a:lnTo>
                    <a:lnTo>
                      <a:pt x="87" y="811"/>
                    </a:lnTo>
                    <a:lnTo>
                      <a:pt x="123" y="829"/>
                    </a:lnTo>
                    <a:lnTo>
                      <a:pt x="159" y="843"/>
                    </a:lnTo>
                    <a:lnTo>
                      <a:pt x="209" y="861"/>
                    </a:lnTo>
                    <a:lnTo>
                      <a:pt x="259" y="871"/>
                    </a:lnTo>
                    <a:lnTo>
                      <a:pt x="306" y="876"/>
                    </a:lnTo>
                    <a:lnTo>
                      <a:pt x="348" y="882"/>
                    </a:lnTo>
                    <a:lnTo>
                      <a:pt x="388" y="886"/>
                    </a:lnTo>
                    <a:lnTo>
                      <a:pt x="490" y="886"/>
                    </a:lnTo>
                    <a:lnTo>
                      <a:pt x="556" y="880"/>
                    </a:lnTo>
                    <a:lnTo>
                      <a:pt x="614" y="871"/>
                    </a:lnTo>
                    <a:lnTo>
                      <a:pt x="658" y="861"/>
                    </a:lnTo>
                    <a:lnTo>
                      <a:pt x="698" y="849"/>
                    </a:lnTo>
                    <a:lnTo>
                      <a:pt x="739" y="834"/>
                    </a:lnTo>
                    <a:lnTo>
                      <a:pt x="787" y="813"/>
                    </a:lnTo>
                    <a:lnTo>
                      <a:pt x="819" y="793"/>
                    </a:lnTo>
                    <a:lnTo>
                      <a:pt x="845" y="775"/>
                    </a:lnTo>
                    <a:lnTo>
                      <a:pt x="858" y="753"/>
                    </a:lnTo>
                    <a:lnTo>
                      <a:pt x="874" y="734"/>
                    </a:lnTo>
                    <a:lnTo>
                      <a:pt x="879" y="717"/>
                    </a:lnTo>
                    <a:lnTo>
                      <a:pt x="882" y="707"/>
                    </a:lnTo>
                    <a:lnTo>
                      <a:pt x="882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23238d"/>
                  </a:gs>
                  <a:gs pos="50000">
                    <a:srgbClr val="3333cc"/>
                  </a:gs>
                  <a:gs pos="100000">
                    <a:srgbClr val="2323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11600" y="3990960"/>
                <a:ext cx="1401480" cy="382680"/>
              </a:xfrm>
              <a:prstGeom prst="ellipse">
                <a:avLst/>
              </a:prstGeom>
              <a:gradFill rotWithShape="0">
                <a:gsLst>
                  <a:gs pos="0">
                    <a:srgbClr val="23238d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2855880" y="3687840"/>
              <a:ext cx="9280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2744640" y="2819520"/>
              <a:ext cx="1321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File ser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20960" y="5254560"/>
              <a:ext cx="1050480" cy="45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UN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62320" y="4646520"/>
              <a:ext cx="3130200" cy="306360"/>
            </a:xfrm>
            <a:prstGeom prst="rightArrow">
              <a:avLst>
                <a:gd name="adj1" fmla="val 50000"/>
                <a:gd name="adj2" fmla="val 511011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6200000">
              <a:off x="3441240" y="4579560"/>
              <a:ext cx="1654200" cy="34560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30680" y="4921200"/>
              <a:ext cx="1345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751360" y="2819520"/>
            <a:ext cx="3400920" cy="3604680"/>
            <a:chOff x="5751360" y="2819520"/>
            <a:chExt cx="3400920" cy="3604680"/>
          </a:xfrm>
        </p:grpSpPr>
        <p:grpSp>
          <p:nvGrpSpPr>
            <p:cNvPr id="313" name=""/>
            <p:cNvGrpSpPr/>
            <p:nvPr/>
          </p:nvGrpSpPr>
          <p:grpSpPr>
            <a:xfrm>
              <a:off x="6013080" y="2819520"/>
              <a:ext cx="3139200" cy="3604680"/>
              <a:chOff x="6013080" y="2819520"/>
              <a:chExt cx="3139200" cy="3604680"/>
            </a:xfrm>
          </p:grpSpPr>
          <p:pic>
            <p:nvPicPr>
              <p:cNvPr id="3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89360" y="2878200"/>
                <a:ext cx="730440" cy="74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45160" y="5997600"/>
                <a:ext cx="465120" cy="42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6" name=""/>
              <p:cNvGrpSpPr/>
              <p:nvPr/>
            </p:nvGrpSpPr>
            <p:grpSpPr>
              <a:xfrm>
                <a:off x="6678360" y="4573440"/>
                <a:ext cx="455760" cy="469440"/>
                <a:chOff x="6678360" y="4573440"/>
                <a:chExt cx="455760" cy="469440"/>
              </a:xfrm>
            </p:grpSpPr>
            <p:graphicFrame>
              <p:nvGraphicFramePr>
                <p:cNvPr id="317" name=""/>
                <p:cNvGraphicFramePr/>
                <p:nvPr/>
              </p:nvGraphicFramePr>
              <p:xfrm>
                <a:off x="6775200" y="4573440"/>
                <a:ext cx="358920" cy="46944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318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6775200" y="4573440"/>
                          <a:ext cx="358920" cy="46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19" name=""/>
                <p:cNvSpPr/>
                <p:nvPr/>
              </p:nvSpPr>
              <p:spPr>
                <a:xfrm>
                  <a:off x="6678360" y="4650840"/>
                  <a:ext cx="92160" cy="21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94120" y="3848040"/>
                <a:ext cx="541440" cy="45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 flipV="1">
                <a:off x="6013080" y="3612600"/>
                <a:ext cx="513000" cy="57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32160" y="5432400"/>
                <a:ext cx="550800" cy="56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198920" y="2819520"/>
                <a:ext cx="1713600" cy="88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pplications </a:t>
                </a:r>
                <a:br>
                  <a:rPr sz="20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(Java, CORBA,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L/SQ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70040" y="3927240"/>
                <a:ext cx="2082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Window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140960" y="4565520"/>
                <a:ext cx="1882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Web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rows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092720" y="5965920"/>
                <a:ext cx="1740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E-mai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022800" y="4146120"/>
                <a:ext cx="541080" cy="42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414920" y="5160960"/>
                <a:ext cx="1433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FT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811560" y="5202000"/>
                <a:ext cx="723960" cy="409680"/>
                <a:chOff x="6811560" y="5202000"/>
                <a:chExt cx="723960" cy="409680"/>
              </a:xfrm>
            </p:grpSpPr>
            <p:sp>
              <p:nvSpPr>
                <p:cNvPr id="330" name=""/>
                <p:cNvSpPr/>
                <p:nvPr/>
              </p:nvSpPr>
              <p:spPr>
                <a:xfrm rot="20040000">
                  <a:off x="6991200" y="5390640"/>
                  <a:ext cx="239760" cy="177480"/>
                </a:xfrm>
                <a:prstGeom prst="rightArrow">
                  <a:avLst>
                    <a:gd name="adj1" fmla="val 75009"/>
                    <a:gd name="adj2" fmla="val 67564"/>
                  </a:avLst>
                </a:prstGeom>
                <a:solidFill>
                  <a:srgbClr val="ffcf0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811560" y="5202000"/>
                  <a:ext cx="723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FT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6222600" y="5127480"/>
                <a:ext cx="60804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751360" y="4665600"/>
              <a:ext cx="1054080" cy="215640"/>
            </a:xfrm>
            <a:prstGeom prst="rightArrow">
              <a:avLst>
                <a:gd name="adj1" fmla="val 50000"/>
                <a:gd name="adj2" fmla="val 24443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Digital Libr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68440" y="2108160"/>
            <a:ext cx="8575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 El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79320" y="1825560"/>
            <a:ext cx="846468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lu di Catat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a saat ini Rp. “0” dari BAPPENAS / IMF / Bank Dun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yarakat yang telah mulai terlib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+ univ &amp; lembaga pendidik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+ perpustaka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rbagai Pesant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000+ user Indonesia di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siatif Grass Root ini terus bergulir &amp; self-fin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ing Tech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Teknolog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905120" y="3124080"/>
            <a:ext cx="5638680" cy="2895840"/>
          </a:xfrm>
          <a:prstGeom prst="wedgeEllipseCallout">
            <a:avLst>
              <a:gd name="adj1" fmla="val -43750"/>
              <a:gd name="adj2" fmla="val -510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kus pada Warung Inter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lajar Lebih Lanjut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si Lainnya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a buku “Teknologi Warung Internet” terbitan PT.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o Buku Gra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a@elexmedia.co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RNET Menguntungk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 akses paling menguntung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al Rp. 50-an ju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Operasional Rp. 1-2 juta / bul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mbali kira-kira satu tahun, dengan tingkat occupancy 25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sekuensi 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lu difikirkan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 juta bangsa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 juta-an tenaga ker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% tingkat pendidikan max. SD! jangan bermimpi pakai IT disini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ya 1-2 juta tenaga kerja berpendidikan S1 ke a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Indonesia hanya 250.000 us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ua Alternat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kenario DomainP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mbatas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cil persentase user IT vs. raky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ngkat pendidikan secara umum sangat rendah – reformasi sistem pendidikan di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yer di Mail Serv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990720"/>
            <a:ext cx="3581280" cy="914400"/>
          </a:xfrm>
          <a:prstGeom prst="wedgeRectCallout">
            <a:avLst>
              <a:gd name="adj1" fmla="val 1509"/>
              <a:gd name="adj2" fmla="val 108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Forwarding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dari POP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34120" y="990720"/>
            <a:ext cx="3581280" cy="914400"/>
          </a:xfrm>
          <a:prstGeom prst="wedgeRectCallout">
            <a:avLst>
              <a:gd name="adj1" fmla="val 13518"/>
              <a:gd name="adj2" fmla="val 12864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P Mail Server di 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/ Persiapan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762120"/>
            <a:ext cx="3809880" cy="1371600"/>
          </a:xfrm>
          <a:prstGeom prst="wedgeRoundRectCallout">
            <a:avLst>
              <a:gd name="adj1" fmla="val 36208"/>
              <a:gd name="adj2" fmla="val 97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Forw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62520" y="1371600"/>
            <a:ext cx="4114800" cy="3276720"/>
          </a:xfrm>
          <a:prstGeom prst="rightArrow">
            <a:avLst>
              <a:gd name="adj1" fmla="val 50000"/>
              <a:gd name="adj2" fmla="val 3139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main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e-mail ad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l Server Dial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3214800">
            <a:off x="3428640" y="2971440"/>
            <a:ext cx="5181480" cy="2590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PMail Server kirim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 rot="2715600">
            <a:off x="3270240" y="2162160"/>
            <a:ext cx="5486400" cy="3085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Mengambil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Mengambil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1828800"/>
            <a:ext cx="5715000" cy="2514600"/>
          </a:xfrm>
          <a:prstGeom prst="wedgeRoundRectCallout">
            <a:avLst>
              <a:gd name="adj1" fmla="val -43444"/>
              <a:gd name="adj2" fmla="val 893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b / Internet Expl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Tele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Tele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2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PhoneJ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2836800" y="-42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36800" y="-42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ipj_sidelrg" descr="Now $149.95 with Manufacturer's Mail-in Rebate"/>
          <p:cNvPicPr/>
          <p:nvPr/>
        </p:nvPicPr>
        <p:blipFill>
          <a:blip r:embed="rId1"/>
          <a:stretch/>
        </p:blipFill>
        <p:spPr>
          <a:xfrm>
            <a:off x="1981080" y="1808280"/>
            <a:ext cx="716292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iceTronix (8 por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8" name="vpb8L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-Dagang untuk Raky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0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deo Con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2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untungan Vo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asi WARNET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 Card DSP ~US$150 / ka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si ke US biaya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$0.13 + Rp. 75 + Rp. 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si ke US biaya SLI 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p. 8300 /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e-Daga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-mail cuku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petitiv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knologi Penduk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ung Intern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Telepho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untungkan &amp; Mudah Balik Modal (kurang dari satu tahu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5T02:13:50Z</dcterms:created>
  <dc:creator>Onno W. Purbo</dc:creator>
  <dc:description/>
  <dc:language>en-US</dc:language>
  <cp:lastModifiedBy>Onno W. Purbo</cp:lastModifiedBy>
  <dcterms:modified xsi:type="dcterms:W3CDTF">1999-10-16T01:53:30Z</dcterms:modified>
  <cp:revision>48</cp:revision>
  <dc:subject/>
  <dc:title>Alternatif Infrastruktur Informasi Untuk Bangsa</dc:title>
</cp:coreProperties>
</file>