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326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8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8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080" y="6486480"/>
            <a:ext cx="2557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itute of Technology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420040" y="57240"/>
            <a:ext cx="682560" cy="94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donesian Information Infrastructre &amp; EDI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Network Research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itute of Technology Ban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Arch. of Nat’l Info Infrastructur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981080"/>
          <a:ext cx="88390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8839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901960" y="2444760"/>
            <a:ext cx="5931000" cy="2349360"/>
          </a:xfrm>
          <a:custGeom>
            <a:avLst/>
            <a:gdLst>
              <a:gd name="textAreaLeft" fmla="*/ 219600 w 5931000"/>
              <a:gd name="textAreaRight" fmla="*/ 5711400 w 5931000"/>
              <a:gd name="textAreaTop" fmla="*/ 86760 h 2349360"/>
              <a:gd name="textAreaBottom" fmla="*/ 1876320 h 2349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VAN or Interne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Arch. of Nat’l Info Infrastructur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1981080"/>
          <a:ext cx="88390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8839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 flipH="1">
            <a:off x="2521080" y="844560"/>
            <a:ext cx="6540480" cy="3645000"/>
          </a:xfrm>
          <a:custGeom>
            <a:avLst/>
            <a:gdLst>
              <a:gd name="textAreaLeft" fmla="*/ 241920 w 6540480"/>
              <a:gd name="textAreaRight" fmla="*/ 6298560 w 6540480"/>
              <a:gd name="textAreaTop" fmla="*/ 135000 h 3645000"/>
              <a:gd name="textAreaBottom" fmla="*/ 2910960 h 3645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uthentication &amp; security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perless trans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Arch. of Nat’l Info Infrastructur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1981080"/>
          <a:ext cx="88390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8839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 flipH="1" rot="10800000">
            <a:off x="2138760" y="2596680"/>
            <a:ext cx="6921720" cy="4178520"/>
          </a:xfrm>
          <a:custGeom>
            <a:avLst/>
            <a:gdLst>
              <a:gd name="textAreaLeft" fmla="*/ 256320 w 6921720"/>
              <a:gd name="textAreaRight" fmla="*/ 6665400 w 6921720"/>
              <a:gd name="textAreaTop" fmla="*/ 154440 h 4178520"/>
              <a:gd name="textAreaBottom" fmla="*/ 3337200 h 41785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ducate The Trading Part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The Demand  / Ne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ensus in Imple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n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Arch. of Nat’l Info Infrastructur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28600" y="1981080"/>
          <a:ext cx="88390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8839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301760" y="6480"/>
            <a:ext cx="7759800" cy="4940280"/>
          </a:xfrm>
          <a:custGeom>
            <a:avLst/>
            <a:gdLst>
              <a:gd name="textAreaLeft" fmla="*/ 287280 w 7759800"/>
              <a:gd name="textAreaRight" fmla="*/ 7472520 w 7759800"/>
              <a:gd name="textAreaTop" fmla="*/ 182880 h 4940280"/>
              <a:gd name="textAreaBottom" fmla="*/ 3945600 h 49402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velop The Expertise 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nowledge on E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Country Test-Bed Wou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nefit All, Collaborate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ducation &amp; Research In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Basic Strategie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use the existing infrastructure whenever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d Qualified Human Re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Basic Strategie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use the existing infrastructure whenever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d Qualified Human Re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rot="10800000">
            <a:off x="2215080" y="3359160"/>
            <a:ext cx="6845400" cy="2425680"/>
          </a:xfrm>
          <a:custGeom>
            <a:avLst/>
            <a:gdLst>
              <a:gd name="textAreaLeft" fmla="*/ 253440 w 6845400"/>
              <a:gd name="textAreaRight" fmla="*/ 6591960 w 684540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Most Difficult Task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Major Internet Application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m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T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EDI in Transportation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C X.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To Whom EDI Can Be Used?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king / fund transfer / credit / debit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; Legal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line / ticketing; Shipping /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 / contract; Purchase order; In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; Re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Example of EDI Messag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Objectives of the talk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Information on Indonesian Intern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lternative for EDI in Indonesia for faster deploy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Example of EDI Messag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Major cost to move to EDI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 EDI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 with a VAN service provider (or Interne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 data analysis needed to map information from their application systems into the EDI standard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 programming required to create a file that can interface with EDI translation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Tactical plan to implement EDI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eminate information on the standard &amp; Implementation Convention (I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eminate information on the VAN / ways to integrate to EDI Indone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e the Indonesian Internet users on how to interact in EDI envir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/ activate a test-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ion of the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063de8"/>
                    </a:solidFill>
                    <a:miter/>
                  </a:ln>
                  <a:effectLst>
                    <a:outerShdw dist="107932" dir="2700000" blurRad="0" rotWithShape="0">
                      <a:srgbClr val="eaec5e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063de8"/>
                    </a:solidFill>
                    <a:miter/>
                  </a:ln>
                  <a:effectLst>
                    <a:outerShdw dist="107932" dir="2700000" blurRad="0" rotWithShape="0">
                      <a:srgbClr val="eaec5e"/>
                    </a:outerShdw>
                  </a:effectLst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063de8"/>
                    </a:solidFill>
                    <a:miter/>
                  </a:ln>
                  <a:effectLst>
                    <a:outerShdw dist="107932" dir="2700000" blurRad="0" rotWithShape="0">
                      <a:srgbClr val="eaec5e"/>
                    </a:outerShdw>
                  </a:effectLst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063de8"/>
                    </a:solidFill>
                    <a:miter/>
                  </a:ln>
                  <a:effectLst>
                    <a:outerShdw dist="107932" dir="2700000" blurRad="0" rotWithShape="0">
                      <a:srgbClr val="eaec5e"/>
                    </a:outerShdw>
                  </a:effectLst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063de8"/>
                    </a:solidFill>
                    <a:miter/>
                  </a:ln>
                  <a:effectLst>
                    <a:outerShdw dist="107932" dir="2700000" blurRad="0" rotWithShape="0">
                      <a:srgbClr val="eaec5e"/>
                    </a:outerShdw>
                  </a:effectLst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Practical Implementation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on Indonesian Information Infra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would be feasible, needs more focus on network security &amp; authent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, EDI &amp; Internet is only a t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ed human resources would be the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-bed could be deploy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Infrastructure in Indone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strategy / policy to implement EDI in Indone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donesian Speed to Internet 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219320"/>
          <a:ext cx="906768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06768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User Composition (June 1995)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320" y="1219320"/>
          <a:ext cx="8991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19320"/>
                    <a:ext cx="8991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-37800" y="5502240"/>
            <a:ext cx="7289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Mostly Dominated By Commercial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-3240" y="-3240"/>
          <a:ext cx="907416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88160"/>
                  </a:xfrm>
                  <a:prstGeom prst="rect">
                    <a:avLst/>
                  </a:prstGeom>
                  <a:ln w="12600">
                    <a:solidFill>
                      <a:srgbClr val="063de8"/>
                    </a:solidFill>
                    <a:miter/>
                  </a:ln>
                  <a:effectLst>
                    <a:outerShdw dist="107932" dir="2700000" blurRad="0" rotWithShape="0">
                      <a:srgbClr val="eaec5e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t is to say ..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6320" y="2514600"/>
            <a:ext cx="648000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net would be an altern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implement EDI in Indones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a short period of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th minimal effort in buil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net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Check Out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telkom.co.id/nusa21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lp.itb.ac.id/~yc1dav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Arch. of Nat’l Info Infrastructur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981080"/>
          <a:ext cx="88390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8839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2T23:46:30Z</dcterms:created>
  <dc:creator>Onno W. Purbo</dc:creator>
  <dc:description/>
  <dc:language>en-US</dc:language>
  <cp:lastModifiedBy>Onno W. Purbo</cp:lastModifiedBy>
  <dcterms:modified xsi:type="dcterms:W3CDTF">2000-03-16T04:18:01Z</dcterms:modified>
  <cp:revision>26</cp:revision>
  <dc:subject/>
  <dc:title>Indonesian Information Infrastructre &amp; EDI</dc:title>
</cp:coreProperties>
</file>